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6CDB9-2953-4ED0-BDEA-9EB56117A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16126-B61B-408A-BE2E-42BCA3C45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DB54C-BAEC-4E26-A108-4ECDB33AC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33248-E763-41FD-A9EC-627B9A129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F4665-02AE-4350-9E1E-AB26E7B4D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205E3-E45A-4E1D-AE08-00353ED4B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AEDEB-BFB5-498E-9F25-EACA245FF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2FC57-41E2-4696-8719-1E56EBE33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CDE6E-4F12-4E31-AAB6-D85B7121C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7D80A-C862-40C7-A373-A7A4E5B8F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04212-2167-4486-A123-08C0C8EB2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39C25-DEB1-4ED4-9FD3-9B7C080E2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D3D0-C0BC-4C3D-8592-227704B850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ransition spd="med">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5148360" y="1484280"/>
            <a:ext cx="1439640" cy="1440000"/>
          </a:xfrm>
          <a:prstGeom prst="rect">
            <a:avLst/>
          </a:prstGeom>
          <a:ln w="9360">
            <a:solidFill>
              <a:srgbClr val="969696"/>
            </a:solidFill>
            <a:miter/>
          </a:ln>
        </p:spPr>
      </p:pic>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13a3</cp:lastModifiedBy>
  <dcterms:modified xsi:type="dcterms:W3CDTF">2012-06-19T11:00:04Z</dcterms:modified>
  <cp:revision>43</cp:revision>
  <dc:subject/>
  <dc:title>SALARIUL</dc:title>
</cp:coreProperties>
</file>